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EA4-0F14-461B-B4D8-6A11C2BD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457-A0B9-43F7-80B2-76ED1DCB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C4F-2E03-450F-865B-557B5BD2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9FE-BC40-4264-86EF-EC4A51AE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CA6-2A5B-42F5-A3CA-B35D5363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C53C-FB69-4213-ACEE-9051FC79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4F0D-56FD-4CC5-BC89-E9911E25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E097-F585-4CA4-B0C5-6745A704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E3CE-FE4E-4EC1-9CB0-F3679155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2E0E-9884-4F9D-881F-F5DBC400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0BC8-9E9C-4C46-A08A-97C6304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4A3-0627-4F63-A860-8FEBA76E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A5D3-68FD-4035-9D3B-FD01E01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EE10-2D2F-4109-9897-619283EC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61A1-092D-42C5-9241-84BD9372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D386-8431-4389-8B4F-A68FF1C5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945E-426E-4950-BF53-E68B5A3B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ABB-6759-428D-B2C8-D907608C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CAC-0DD1-499C-9DE0-A6612693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4EE-0956-4E12-B2A1-AD226FCB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964-A807-43FD-973F-1716554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22E-B632-4735-A2F1-981CE1DF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77F-6163-46C7-A67B-2773CE5C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250-9C95-4B41-A675-E15FE1D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3ABA-4CF3-4627-83C2-05DB52E7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6220-58C4-4D63-B46A-D70F0BC7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oken B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fracture is a broken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are often vary pai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243828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es In Your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266652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000"/>
                </a:solidFill>
                <a:latin typeface="Arial"/>
              </a:rPr>
              <a:t>There are over 200 bones in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000"/>
                </a:solidFill>
                <a:latin typeface="Arial"/>
              </a:rPr>
              <a:t>Bones protect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000"/>
                </a:solidFill>
                <a:latin typeface="Arial"/>
              </a:rPr>
              <a:t>Bones commonly break because of contact s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5410080"/>
            <a:ext cx="228600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to do about a broken 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4760" y="304776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ll the person not to move the injured 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t a cold pack on the injured 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on medical assistance and keep the arm immobi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720" y="5800680"/>
            <a:ext cx="1164960" cy="1057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2:59:02Z</dcterms:created>
  <dc:creator>Kraybill Campus LMS</dc:creator>
  <dc:description/>
  <dc:language>en-US</dc:language>
  <cp:lastModifiedBy>Kraybill Campus LMS</cp:lastModifiedBy>
  <dcterms:modified xsi:type="dcterms:W3CDTF">2011-05-24T13:11:12Z</dcterms:modified>
  <cp:revision>5</cp:revision>
  <dc:subject/>
  <dc:title>Broken Bones</dc:title>
</cp:coreProperties>
</file>